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F3C-15C5-4BD5-A245-5692AF45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2AC-DB43-43AB-92F3-A569EFDF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3F5E9-9AC0-49CA-A9C6-6CF1E846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59919-A18A-4B2C-ADAF-441F1CF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DEDE1-7662-455A-9CE2-1FA6C163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02F99-5D0C-4C56-A809-81E346D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CDA04-263B-4C62-842A-9F7CD9BD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93A47-41BA-4C26-817F-0839C759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B2CD2-0660-4300-842F-3EC414AE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21063-AA0E-4827-9BB1-F03835B0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00354-8EAE-457A-916B-588B19FC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BD3F3-48E0-42CF-B011-27E4113C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A28-804D-4EC1-B531-88F9239B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24F92-4A35-4AB6-90CF-2EAD5B39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B5E8D-5797-48E8-8823-659CFD0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1618F-92DA-4B58-B195-89B14A62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E5DA1-D8FA-4561-880D-7750A981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CFA22-E2EA-4D07-B2E7-53E1E5F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405DC-49C3-4DEE-805E-12A321C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1F5CF-2279-4D68-B157-6FB0280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6EAFC-6335-4088-BB9F-1C4B8CE7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1C048-5C26-422D-97DF-A1FEBB9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1646F-377D-448C-B0AD-E14A8A97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229-8269-468C-A090-B3D27E26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32AC7-9934-430A-945F-5836E8F8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990D8-126A-47E9-8682-28AEEF7C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00B89-22CA-4AB1-89BC-31186D4E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12A84-F642-4733-A447-EE81E70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C3BBA-337D-4A91-9CF0-7A33F83C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841E6-6D89-4777-A539-E53B33EF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23577-A1B4-4F0A-A685-3CEBE387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1E7AB-8747-4BF7-B8B7-0A81466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5668E-77A5-4E67-B9FF-ADE2179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DB8E0-D491-496E-8FB2-E40C827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3A98-C8FD-4E12-A22B-1F87B000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EB8E0-140E-480E-9652-49E256A6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12B85-280C-45C7-B624-F21435BD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D419F-F73C-48B7-9753-F56262DE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66FA6-FCDE-4476-9DBE-DF018A24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3FC86-3A98-4AA4-9121-BD667DB2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CC3B0-ABAC-4E37-B425-26E6C501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B2ED1-ACED-4717-B69E-8B18983D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40E13-A800-4719-868B-2F218B4F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A3D1E-8A41-4F5A-86A4-2001F200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F689B-BBCD-4D2D-8743-FF2287F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33FB-1798-4A8F-9A49-7C94876F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24817-0D68-4598-A633-BD30778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14CD8-D741-4572-BC38-DAAC999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E01AB-DEC4-4BE1-AA42-4B97F79B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65DD4-9001-4701-BD0A-36B362D9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E885A-E15E-48E9-863B-91E58105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60918-9C5D-4C03-AD3C-9A5EA8DB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F7D70-BC1E-41EB-AC31-CE7ABB91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BA134-12F4-4A1D-8EC1-F8E309D9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7081C-627C-49C0-9E47-9BCBC4F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85AD9-0C2C-4840-959C-CCAEC049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07EF-E55D-446F-8494-88135A52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87CE9-2298-4C77-A44B-B23B0753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46685-82C6-4427-9040-32B16407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7BB2C-55B4-4615-B6B7-0B701365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78BA5-E547-4E87-8408-7CAEF73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A31A2-F190-45EC-8CDD-9A5164F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8DE94-A738-439F-AB98-CC49EC06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22AA7-6EDC-4146-95AE-572AEA5E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B5C67-BFA6-447B-9529-83D83E22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BA461-0126-4BFE-8D1A-D11C62C5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A4C2A-4376-4A79-8B55-CE9BAD9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4645-0C67-456F-A148-C341B6B2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9A6D9-615E-4C7F-83F7-70C30D09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AF589-23B9-453B-8B32-E4AD4628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1434B-34D6-4957-8C4F-BDDCE3E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3C947-D5C3-45BC-BDAE-E9269C6E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E3097-FA56-457A-B570-AE712D76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7D49F-D30D-4E89-B602-A601CD8A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07B3E-4553-4F81-9AF2-A8719BD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B2941-AC31-4930-909E-F243A78E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60FAF-8B6F-4F6F-AEDB-D3F88653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B467B-D517-4758-975C-C30615FE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4357-D0A6-4D1D-B00A-6D219FA7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F65F5-4D68-49B0-B6B8-5D83B6FF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C90E7-3FAF-41EC-AEDA-D5C43AFE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F5AF7-647C-42A1-A5DA-1A31DB70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AB6FF-CD7D-4CB0-863A-A6B90D62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F16E5-EEF2-440E-9F1F-FECAF0A6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AA9DA-C606-43BD-89B9-18D8969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C0C8B-EB30-4017-A517-4F6E1ACB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484AE-E1C8-4F1B-BDA8-D4C95545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FF01F-30A3-4D89-A943-EE487D2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4293A-430B-45DB-B2BB-A4D9D08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CFC2-42D6-40F6-B47B-47DCDD17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8176E-67AE-4987-A093-6B0B0CF4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4FCD3-EDC5-4DC6-9CD8-D277C4F0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88C73-8220-4E72-B9AA-E30A45E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8411A-91E6-4767-A259-9BAA37D1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CDEFB-E76B-46C0-8072-3CEB1500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D3983B-6F70-4E8A-8C95-DEF977FA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7E6BC-C629-41F8-99F9-4ACC795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EEB98-5B13-4200-8B33-F6F8190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A1FA2-9EEA-4688-9318-CB05920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9DD11-AFD7-4332-858C-A7DA27BC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B0E-8F99-4456-9F2E-19F01EE4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444AB-3816-4BF1-B077-ACBC6EF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3F005-5F71-4CDB-A63E-D306C9D7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1DC64-3FC8-43CE-B70D-0D541862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997F7-EC5A-46BF-A2DB-621A98BF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CD3CC-2474-4093-8AE8-34EBE6FD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ECF9F-1793-4F27-878A-B655C0A5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2B899-2EE9-445D-BD3C-8AC4D202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F3C4C-E0CA-48B5-A540-D0FF5EF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56DAB-AC0B-4A62-8656-DFF3CCC3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6C4F6-EA32-4206-886C-4B48D4D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3A2-3462-4AA5-BCBA-D51A4343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A303-D4A2-4B37-99C8-64E8F87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F7B1F-3C84-43BD-A6A4-9CCD483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A6EC8-9068-4C28-B0ED-218F52D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81C6D-52C8-4C8E-A504-FC2EA986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AF80D-BFCD-473E-A101-8B5ECC70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A56AE-F4DF-4B50-8398-A3C5D4CA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82B25-89C1-4294-AD35-573E71CD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36C61-7EDB-41CF-A5FF-96BF9C8C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0BA74-8761-406F-842E-8A3C18C7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372C6-24B6-46D5-8A39-FE6AF857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D99EA-2357-4B34-99E1-BC800388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B1C0-BDF5-499C-9939-180C9D9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AFA05-8A06-4657-A07A-321DD5DA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02A40-4202-4089-854F-684FE00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AC1A5-8204-45D9-8474-D63A058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2ED93-9EB2-4315-874B-714331C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2D835-F691-4CD7-914F-4A79CBA7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E9D90-DE4A-4396-861F-86BB0525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12C9E-FA97-498A-A789-5FE8CCD9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3BCCA6-C2B9-47BE-8146-766CC15C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55AAB-2F55-4ECD-9358-97E23E6E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9B102-DAF0-461A-A276-D46DE813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A382-D7DF-42CD-AFFB-C4B4941E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C2390-1FEA-4362-B89E-ABA9E93F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7C4896-E2A1-4539-808D-0082D30E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B336D-437F-4F8B-B096-81DE37EB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BC011-0395-4C4B-B706-0CFFF22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F6CD7-CCC9-4E49-9DB3-C17A901B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FB42F-8692-4EA9-AA58-2B2F46C8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77FC7-704D-4212-9A9A-32912288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38A5D-9F73-4B1E-B483-DCA564EE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FAF8B-BFD4-436C-8DF9-4614BF68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8660A-C614-4A01-AF35-D0F959A7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4F24-7613-4255-9331-C58BD05F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5387F-FEF9-4761-AD1F-CB0D176F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B65350-D282-4B07-8901-B5432555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23F31D-BA72-4541-A5D6-A98352EB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D784E-6653-486F-BFE8-DFF7FA41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C9415-F838-4A2A-A72D-C54C98C1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53C4F-B980-496B-91D8-0F41674F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0DBED-6A02-4F4C-AE8F-776E05D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15EAA-C0BC-44A4-9E28-84318DB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FFEFA-1F72-4A4E-ABF3-F57469A4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ABE77-B40F-44B3-AEA4-08B79805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08ED-4B80-467F-9A70-E48C9A97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D61F4-3632-4E48-920A-6C53CA8F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DBD4E1-30F3-4828-8826-7DD2014E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298FCC-B513-40EA-A184-BECD8914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F8F17-68E4-4518-BC8D-D20AB7F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98A1A-91E1-4EE5-878B-DC78CD21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8A4EFF-94DB-42EF-BD5A-3551A8DF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86FB2-FE0E-42A5-A9E5-2A82B2F5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88043-6064-4DD7-B9F8-B11F30ED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8E5C1-AF27-4A6F-A62F-CB19A02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F2470-4D71-448F-9EBD-18F7A08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B6F7-C6CE-4314-AE40-4701A8D6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42741-1CDE-4CD1-8486-A87BCDF9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2B2C6F-7972-4471-A2E2-03824638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7D503-1DC0-498B-9639-6388669C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425E-F06E-41E6-B0DF-30DA3A6B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F8790-ED6B-4519-BAC8-26A708D6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C7C9-4226-4821-AD6E-00E09394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68C1-C87C-4B98-AF5C-45C705A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526-9BDB-4892-B2B6-EC9788D9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72CE-6F52-47AC-BF91-82B42349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A162-75FC-43EB-B323-3576100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B35B-A708-40D7-ACEA-9419099E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D51A5-AFA1-427E-9A2D-79704629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EE4D-60FD-44C0-804F-00EEA7CD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06653-5E24-4BB3-B07C-EBF9AD2B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8FB6-8F2D-4B00-8CF0-9C741109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0117-1DA7-4A31-8DEF-A83080AA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28E5-5163-4C95-AEDD-4B813811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0045-020C-4D68-B0FC-414DB963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07E-0864-4E22-9A6D-A1F65E68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B4E2-DCFF-4D5B-A2FD-D7C893D9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04D0-0455-4D8C-A5AC-8AA4D2E9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6A67-5DAD-4968-9243-59C8B7B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367F-E06E-4A22-8E9F-378E9775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0CE3-75E6-464A-991D-DD528C4A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4E57-7200-400C-842E-5A69A3C9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DEFEC-6491-4307-91BC-BF39D6ED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6E16-4E3C-4FD9-BEC8-6712E588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BDFD-422D-445E-B2A0-B0E9511B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9386-C533-4446-9448-3619619F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036-76CA-4BBD-8E92-DF2017E3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CC7B-6061-43C6-9636-CADA9926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C6402-753F-4A38-B5B8-94593B8F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B184A-F2CF-4177-9814-CD82D8B0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9BDE8-6814-4135-81BF-E63A01B2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741E-3F87-4E86-9669-9E4F6252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C997-BBD2-4E4D-86E4-A695B51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2140-26CA-49BC-9591-D36A9F6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0ACDB-5805-4F08-881B-91F06D58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27A29-1BFE-40DD-A60B-B501BFBD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BFCC-EB15-4B0C-85A8-2A037430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478-3910-4913-A9F2-684C8100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4C4E-7AE3-438A-9D91-A237E98A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10581-2976-4F4F-B163-5BD6703E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5DDC4-5B76-4FC3-83C5-5A21A5E6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E5C5-5AD7-4BD1-B51C-F7BFE37A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6084-2CA1-4DB8-AA91-CA6D0D29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C196-918E-44C4-AE02-222F6707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4336-2434-4815-B446-1E7D7DCB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A9F39-0838-4B77-83F2-70A2DB5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10C1E-2302-4C7A-B41F-2F7A143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BD5F-01A6-4CEA-9236-ED232BB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21B-A0F2-4725-8F54-F06B2C1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40FD6-7193-4ED3-8334-78F9B1FC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3F94-BDCF-42D3-A767-C807A1C7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A10C2-28B5-4BE9-976C-A9970AFC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1FB4E-6563-4AE3-8468-424419D4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FD10C-2E6C-4A1D-BC1F-2C5B4FD8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D8775-FE24-4C4D-9CE7-249BCE30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9D852-E9F7-4F58-92A3-176AF934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A3226-6EF0-41DD-9551-E075F05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B266F-34EB-43AF-9697-41C9EA35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1C1EA-0F1B-486F-8AEC-B00FEF9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E30-4390-45E1-BC19-7EC0D4B0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080D0-AD3E-4450-A370-279C441C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5106-BF77-4D73-BDCB-9E37AD3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28F8-CDAD-41EC-B0C8-FA305B27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1A7DA-C941-4B5D-B654-083A04B9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4ECE-24B0-4F44-9132-C104B010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7DE1-F038-4930-8402-52A3E7A1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96806-19B8-4781-97D4-1BC1EF20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C2C8A-155C-4A81-921A-7B2EEA7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001D-0511-4238-83E4-015467CF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B7102-7BBF-4567-919D-3F9C0D7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99D-CCB5-44C9-94F9-D21F0453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46BA4-6743-44E8-8877-C9223535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54219-AEAF-4797-83DC-D4E56AD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B4B03-F97B-443B-9B54-79230BA9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91096-2EAF-45D9-BB2D-3294FA82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8A62-3C06-4C6D-BB9D-BCDDB279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3FE60-DD71-4F62-849A-2B4D481F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5AD8-9D92-4D81-B2AE-F679E695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E9D48-C898-49E5-8456-C5F32E1C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68577-35A4-4242-BF40-13941E15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F2FB1-DA5B-4546-80CB-721ADF63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044D-F267-4690-8B65-B75944685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D792-39E5-4EF8-A9B2-F16156B9CD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6120-B0E9-4CD1-B6EB-4E263820ED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C1B-D9F1-4988-9D11-DC62E6007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B21-BEC6-4771-BB8C-D222B83EDF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F5AE-D8BD-4672-9AFD-E2DB725418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DE52-DB9E-4AAA-85C2-A99A105BA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452-1C74-4595-9407-A254E4043C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559E-5272-42B7-886F-23B6C2341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33A0-A4AD-4F63-A656-2CABB7D7B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ECEB-8502-4446-8786-BC5114891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A3D6-A7F0-4809-A7C0-6CAF67DE2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F5CD-8D6E-4DA3-AE20-52FAA795C7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7F92-CE01-4A98-A0BD-48F9DA2003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CF4D-5D17-4526-83DB-381F7D8718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1C59-D1C5-4F2A-9D0C-6CF3995EC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CED-3E98-4E15-8307-999DA2C59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8A56-137D-4D9B-B1DD-330AF1FEF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2E02-082A-4DC1-AD0F-A1125078A5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78B3-44E1-4C35-8137-28EA2E465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B569-3D5A-4F1D-B1DE-86F53F2A5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21E0-E429-4EC5-9EC6-5806383E1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956-A7CC-42EB-B8CC-7FD6720604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1D2-A469-425A-942E-A3C05EB23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3B3B-6AC3-4CF7-92E6-73925D03D3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3B0F-FB18-4704-B33D-61ED2670E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379E-A927-4675-874C-0D4ABA4E6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1250-1A20-43D7-B9CB-B3FF17566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2DDB-ACF0-4340-B417-A5FAA5C45B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B423-65D9-4294-8467-452DCA153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1443-C084-416C-B598-5CBF39A2E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FD21-FB7F-46E1-8D6C-DDA294878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42EF-5E0A-4C01-8CB5-723D415796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D7FC-AE11-4D48-99E7-5388ECC732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C2B7-42D5-42D3-A111-FCB4F4C93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6FC9-B38B-4B83-9596-0F99F7838E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E28D-40E4-44B5-9AA4-D18EFB33FF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6802-A496-4BD0-BE22-C4A54BEBC2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EA2D-A0A1-4731-B579-A66C3B5AA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F51-D2AB-4353-B988-DE4A17DBFB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43160" y="3086280"/>
            <a:ext cx="4657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01160" cy="5724720"/>
          </a:xfrm>
          <a:prstGeom prst="rect">
            <a:avLst/>
          </a:prstGeom>
          <a:ln w="0">
            <a:noFill/>
          </a:ln>
        </p:spPr>
      </p:pic>
      <p:sp>
        <p:nvSpPr>
          <p:cNvPr id="1054" name="矩形 2"/>
          <p:cNvSpPr/>
          <p:nvPr/>
        </p:nvSpPr>
        <p:spPr>
          <a:xfrm>
            <a:off x="928800" y="15001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3"/>
          <p:cNvSpPr/>
          <p:nvPr/>
        </p:nvSpPr>
        <p:spPr>
          <a:xfrm>
            <a:off x="928800" y="200016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4"/>
          <p:cNvSpPr/>
          <p:nvPr/>
        </p:nvSpPr>
        <p:spPr>
          <a:xfrm>
            <a:off x="857160" y="35719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5"/>
          <p:cNvSpPr/>
          <p:nvPr/>
        </p:nvSpPr>
        <p:spPr>
          <a:xfrm>
            <a:off x="1000080" y="464328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6"/>
          <p:cNvSpPr/>
          <p:nvPr/>
        </p:nvSpPr>
        <p:spPr>
          <a:xfrm>
            <a:off x="1000080" y="56437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43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52520" y="1100160"/>
            <a:ext cx="82389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48680" cy="578160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71720" y="300024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350028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00080" y="45007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00080" y="55720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00080" y="614376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600120" y="1352520"/>
            <a:ext cx="7943760" cy="41529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143000" y="135720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143000" y="24289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1143000" y="300024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1143000" y="40006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214280" y="5000760"/>
            <a:ext cx="357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286840" cy="2181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642960" y="3143160"/>
            <a:ext cx="8096400" cy="258120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7358040" y="20001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714240" y="2500200"/>
            <a:ext cx="7146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6643800" y="2571840"/>
            <a:ext cx="100008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1357200" y="5214960"/>
            <a:ext cx="2643480" cy="420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61880" y="828720"/>
            <a:ext cx="8220240" cy="520056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3214800" y="1857240"/>
            <a:ext cx="12142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2786040" y="2428920"/>
            <a:ext cx="2071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5500800" y="29289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5"/>
          <p:cNvSpPr/>
          <p:nvPr/>
        </p:nvSpPr>
        <p:spPr>
          <a:xfrm>
            <a:off x="5357880" y="4500720"/>
            <a:ext cx="2286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66560" y="1604880"/>
            <a:ext cx="8210880" cy="364824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1143000" y="214308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5572080" y="26431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4929120" y="421488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38120" y="890640"/>
            <a:ext cx="8267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3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